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3339-D556-4E9C-9C55-D7F19A2F3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EBA8-B239-4043-9208-BA9CEB0A4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8C9AC-839A-42BA-8F0F-96F28D18E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A8E2-0A07-460A-929E-158177E90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3749-13DC-4D03-9B3E-B9D487F80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A82E-7AB1-4D7C-AA00-DC0789E7D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8B03-D538-498F-B49D-A40D63915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3F41-074E-457C-972A-658638EE7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1725B-5184-4271-B051-DE5BD1CAB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C4FE-FAA4-4E59-957A-DC54A5E99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679A-7229-4316-9C28-B13A9506E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0403-43DF-4EE7-B440-F217CDD06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48666-EDDA-4D51-A12F-109D7636B9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xxxx.com/" TargetMode="External"/><Relationship Id="rId2" Type="http://schemas.openxmlformats.org/officeDocument/2006/relationships/hyperlink" Target="http://www.ddddd.com/" TargetMode="External"/><Relationship Id="rId3" Type="http://schemas.openxmlformats.org/officeDocument/2006/relationships/hyperlink" Target="http://www.uuu.com/" TargetMode="External"/><Relationship Id="rId4" Type="http://schemas.openxmlformats.org/officeDocument/2006/relationships/hyperlink" Target="http://www.eeee.com/" TargetMode="External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3760" y="217440"/>
            <a:ext cx="8610480" cy="6477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92200" y="304920"/>
            <a:ext cx="607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000000"/>
                </a:solidFill>
                <a:latin typeface="Bookman Old Style"/>
              </a:rPr>
              <a:t>Introducción a la Programación Lóg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63040" y="838080"/>
            <a:ext cx="265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AR" sz="1800" spc="-1" strike="noStrike">
                <a:solidFill>
                  <a:srgbClr val="000000"/>
                </a:solidFill>
                <a:latin typeface="Bookman Old Style"/>
              </a:rPr>
              <a:t>Repasando la Historia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09200" y="1469880"/>
            <a:ext cx="22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Monotype Corsiva"/>
              </a:rPr>
              <a:t>John Alan Robin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203440" y="1471680"/>
            <a:ext cx="19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Monotype Corsiva"/>
              </a:rPr>
              <a:t>Robert Kowals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38080" y="1295280"/>
            <a:ext cx="7391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295280" y="1905120"/>
            <a:ext cx="3048120" cy="198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724280" y="1905120"/>
            <a:ext cx="3048120" cy="198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358640" y="3984480"/>
            <a:ext cx="642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Bookman Old Style"/>
              </a:rPr>
              <a:t>Para acceder a la bibliografía resumida de cada uno de ellos presione click en cada fo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38080" y="4495680"/>
            <a:ext cx="7391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09560" y="4572000"/>
            <a:ext cx="393264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Bookman Old Style"/>
              </a:rPr>
              <a:t>Link relacionad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 u="sng">
                <a:solidFill>
                  <a:srgbClr val="009999"/>
                </a:solidFill>
                <a:uFillTx/>
                <a:latin typeface="Bookman Old Style"/>
                <a:hlinkClick r:id="rId1"/>
              </a:rPr>
              <a:t>www.xxxx.com</a:t>
            </a:r>
            <a:r>
              <a:rPr b="0" lang="es-AR" sz="12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s-AR" sz="1200" spc="-1" strike="noStrike">
                <a:solidFill>
                  <a:srgbClr val="000000"/>
                </a:solidFill>
                <a:latin typeface="Bookman Old Style"/>
              </a:rPr>
              <a:t>Explicación breve del link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 u="sng">
                <a:solidFill>
                  <a:srgbClr val="009999"/>
                </a:solidFill>
                <a:uFillTx/>
                <a:latin typeface="Bookman Old Style"/>
                <a:hlinkClick r:id="rId2"/>
              </a:rPr>
              <a:t>www.ddddd.com</a:t>
            </a:r>
            <a:r>
              <a:rPr b="0" lang="es-AR" sz="12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s-AR" sz="1200" spc="-1" strike="noStrike">
                <a:solidFill>
                  <a:srgbClr val="000000"/>
                </a:solidFill>
                <a:latin typeface="Bookman Old Style"/>
              </a:rPr>
              <a:t>Explicación breve del link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 u="sng">
                <a:solidFill>
                  <a:srgbClr val="009999"/>
                </a:solidFill>
                <a:uFillTx/>
                <a:latin typeface="Bookman Old Style"/>
                <a:hlinkClick r:id="rId3"/>
              </a:rPr>
              <a:t>www.uuu.com</a:t>
            </a:r>
            <a:r>
              <a:rPr b="0" lang="es-AR" sz="12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s-AR" sz="1200" spc="-1" strike="noStrike">
                <a:solidFill>
                  <a:srgbClr val="000000"/>
                </a:solidFill>
                <a:latin typeface="Bookman Old Style"/>
              </a:rPr>
              <a:t>Explicación breve del link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 u="sng">
                <a:solidFill>
                  <a:srgbClr val="009999"/>
                </a:solidFill>
                <a:uFillTx/>
                <a:latin typeface="Bookman Old Style"/>
                <a:hlinkClick r:id="rId4"/>
              </a:rPr>
              <a:t>www.eeee.com</a:t>
            </a:r>
            <a:r>
              <a:rPr b="0" lang="es-AR" sz="12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es-AR" sz="1200" spc="-1" strike="noStrike">
                <a:solidFill>
                  <a:srgbClr val="000000"/>
                </a:solidFill>
                <a:latin typeface="Bookman Old Style"/>
              </a:rPr>
              <a:t>Explicación breve del link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Bookman Old Sty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20320" y="5943600"/>
            <a:ext cx="701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Bookman Old Style"/>
              </a:rPr>
              <a:t>Si está interesado en recibir información periódica envíe un mail a la siguiente casilla de corre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Bookman Old Style"/>
              </a:rPr>
              <a:t>LOSGENIOSMATEMATICOS@HOTMAIL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6T01:19:18Z</dcterms:created>
  <dc:creator>Administrator</dc:creator>
  <dc:description/>
  <dc:language>en-US</dc:language>
  <cp:lastModifiedBy>Administrator</cp:lastModifiedBy>
  <dcterms:modified xsi:type="dcterms:W3CDTF">2010-04-06T01:26:31Z</dcterms:modified>
  <cp:revision>2</cp:revision>
  <dc:subject/>
  <dc:title>Slide 1</dc:title>
</cp:coreProperties>
</file>